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85C-945E-4D15-999E-1FAE1B3A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26F-277B-44C8-B1B1-0FA466EE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0C3F2-9452-4C17-AAC5-6247578C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9F357-BE11-405B-B294-997B3A87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001BA-82F6-41EC-9F2B-4ABC02EE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67FB7-2FBA-4064-8C59-D3E67AA1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1CD34-2BE3-4A73-ADF9-73793F7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C00E1-6F0C-4CD0-919D-B98C9C3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9B69C8-3E32-488B-A056-874D82F4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CF34F-AF26-4251-9541-49920B78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49D06-0FA8-40D3-832B-82ABE96B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D34776-22A0-4480-8133-90B1EA65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8A3-92BF-4CF1-A6B9-D28660A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0653C-27D2-4A29-83F1-FDDBABF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322B7-8C3F-4F1F-B675-1CFF987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0F13C-D52F-45FB-BAC1-B8989651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0779C-BBFD-48EC-B9BF-C6D32D9F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BAEDE-204C-476C-B553-BB79C538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DB63C-1382-445E-A2AF-9C30D1E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AE7A6-4AFE-4DD2-98C3-1B0B4D36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B4FE4-AEA9-4A04-BD59-10C14B28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A8411-7B7C-43B4-9B3D-EFD0D4B2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98775-AFE5-48C3-BCD1-634A66C5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C13-0087-41A0-AE93-364A272B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BC831-D512-4C7A-8161-A65AA55E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57FFD-6C36-4DD7-AD22-23B80AEF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3494F-38EC-456B-A7C5-25BA3151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3FE04-78EF-4F80-A252-CA61F7CD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A2F4-8DB6-4EE7-9495-06A2AC2E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47C96-D052-40AD-BB7F-9B88BC47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C3964-EAD8-42DE-A57F-193A8C7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EADF6-7762-456C-A9CF-074E52A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077B9-A425-427B-9E2B-7D55F5CA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ABFA5-0A7E-4911-94F6-9975187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073B-F2A9-4B42-A092-E1024B85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0A6E0-C644-49CB-9BD2-967758BA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16B0-5AB1-4A47-ACA2-D7F241EE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21EDD-8FD6-4144-9096-26CA0A8E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11BAA-C1D6-4DCB-8FB1-E3B11745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27396-2AD4-471C-8F3B-62F14A3F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BB358-0A69-4DE1-B695-29F8758E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BD654-AE97-4634-A7B5-EDF60A2E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6F167-8919-4ACD-A38D-F771AF75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6CDE2-DCC1-491E-9D8C-58EDFD51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CFFD3-C762-4435-9103-DDFDD24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192C-AEED-4012-B6EE-FC70887B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421A1-E75B-40EE-9BFF-3CEA314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7C245-CD3D-4530-AD32-1D64BE1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FDB5F-0FC0-4D50-9B03-958C092C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A07BF-8197-417E-80E2-3E7E924B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2B215-6D1C-4328-A2D2-37435D29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CED2-E6EC-4B93-AC70-4E98A3A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6D0A-3ACD-4F6F-B32B-9622D4A8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E98B-408F-42AE-8C14-470D104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80C1-B90E-4308-B490-554EFAB3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7D2-DD32-4F36-8ACF-14BF5353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A2B-709E-4475-A42E-2E11047F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339B-1849-42A3-86CD-A6A580E4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D80-B41F-4F2B-A2A8-68F9C060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4065-A8F7-4E78-9C78-592A4CA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1CDE-BB0B-4E3D-A01E-CB45436E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F51A-F0E0-49F4-8FDB-4DE32E5F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A05F-1791-4203-9F51-BB53BE3D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A9D2-C29C-47A7-8A16-CF24EBB2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3A3E-2A19-4209-95C0-7D6285D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54CA-1333-45F6-A187-35285661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3723-A40C-4385-B530-C583FA3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E29-3717-4860-8345-A7615798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22CF-6443-4CA9-92FA-4C7C4AAB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F162-0B2D-42C0-AE84-23D88F26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4EFE-1F98-4581-8E34-B2D9766E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2BB3-9464-4240-9C45-05F118E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E1A7-ACF7-4CA8-A98B-45BB2D3E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48F8-A889-42D7-9C8B-5670CEC2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5732-1CCF-4D8A-80C6-88C6E065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5BB8-0E41-4460-BC6A-C3361FD6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EBFD-3F20-4EBB-A7FA-4079C066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E96A-D368-4F06-B14B-18CA8F5E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EA3-6CCA-44EA-817F-A2F322A7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9FFB-9D81-4296-90D8-DFCD9052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ACEA-B867-41FF-B232-FFF7503A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C657-70B7-4AC2-930E-40EF977A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5DD7-A85C-47E6-94A7-78797D7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424F4-24C9-4913-BC9F-3B472B36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C8A2-EC29-46BD-ACB1-D8C9B67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52FA-6BE7-4871-A3BD-D506A242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1673C-BDB4-41D7-B487-C4B0D3A7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7654-4DAE-453B-8443-E8A14D11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06D6-EB9B-465E-B49D-4CE71438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154-F1AB-4B63-AC74-3ED52476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0B088-EC4B-476E-99B3-7EED131F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C2BE-EF82-430B-8A2B-F4358A9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7FFD-A821-4BF5-A9C0-DE3E689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F7D09-65E2-430F-82F0-0ACFA579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521D8-A94E-4CA3-B814-E39CC460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A16F-B1ED-489D-AA9E-807DD72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23FC5-7E8A-41C5-A26E-40220D3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474E-9C37-43A8-B009-68B4D77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78BC-C2FD-4256-87F1-E6A60E8B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1144-79A6-4405-8434-A01120BC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2B6-C7E9-408B-ACBB-FB5F246D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D4958-E660-4E0B-9EA4-097F67C7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EF872-3316-410C-BFF9-78A21E2D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0BEBE-0A6E-4374-B502-4B2F5421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E24B7-1416-4B0E-8A01-8153B521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651D-2A45-4FC3-B0CE-C6B871E7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0735-A4D0-405A-A359-2A3DBAB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37CA-04D4-4680-AFAF-8C897A49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D90D6-60CB-49A1-B50C-33A83C7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F116-B301-4426-8DB2-6CABFAE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50C40-EEC0-4390-B579-7E05A9E6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9A2-05F4-4426-AC25-966AF4D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EB275-43E6-4911-B72E-659D68A2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73E9-4802-45CB-B6D6-7974DB71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4D86F-F8CB-4A06-B844-236896A4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81B2E-B377-43D6-B4F4-300636A3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ADA19-0665-401B-9732-C5558C78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998F-5031-4D4B-8BD1-24C9DF8E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5062-BD53-4363-A807-85AA24C9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0C66D-D4D9-41D1-A155-60D2AFD7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5DAE4-BE78-478F-85D7-6044591A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DD886-05B7-4564-B88F-2428906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610-8798-4ACD-AC21-162F08A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BC365-A21B-4F47-95CD-798270A7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26D8F-6903-4738-B21B-ED47A74C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7CA9-6C3E-4935-BAB2-26D88B54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BE1AD-7ED1-46F4-A04A-6FF19CFA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9BC3D-72C6-48EF-928F-5E2F4657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75038-ED15-4831-B963-2B6A8DD3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EA6D3-A841-4D3C-9B0F-E9F728DE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40BB1-A24E-48CD-B617-C296DD7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89FAB-895E-43FB-9BCA-BC7B6DC0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07455-9F11-4731-9DED-35F8803D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D07-A48E-4594-A400-1E67670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CE6FD-A767-49B5-BE5A-B817569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A40D-1903-4733-A690-2500D1D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FC929-26F2-4E20-B897-2EBAD69E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5F85C-25AD-4DA0-AE24-935CBF8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0828-2EBB-4C5D-8479-2EBC1A32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EC1E-966E-48E4-AEBC-36DFFA24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52337-CFE1-4350-9CA7-D7B9A238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C657A2-0AD5-45F3-813A-25187B2E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91A21-EE3F-4797-8AFA-CDB4A580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AA6CC-9EE0-4296-BAEE-E3FD7164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97EB-9269-4F3E-95F7-33D62A62E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C618-A452-45CC-98E4-C80414ECA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FF6A-3B58-46B6-8E59-662199CC3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083-6316-419D-8EF8-6F2C6E58E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D352-6B30-41A0-B80F-FDD65D6FD3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62AA-E2DE-4277-89F8-FF7BB891AF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12D2-B0B1-41DC-93DC-C80193F42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81F9-732C-4DCE-BA79-5F49BC372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957A-FC67-4116-9116-980186E7E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A12-0062-40EE-8B7F-82228B29B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9134-2128-4373-94EC-750956ABB69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D962-B442-4F31-A4B0-7367DD4DF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njuan.edu/files/filesystem/Marzano.pps" TargetMode="External"/><Relationship Id="rId2" Type="http://schemas.openxmlformats.org/officeDocument/2006/relationships/hyperlink" Target="http://www.uhseport.net/published/k/sh/kshaw/collection/1/25/upload.c-kshaw-1n25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ets.gc.k12.va.us/VSTE/2008/3effortandrecognition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RESENTED BY JANE COOK,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CONN LITERACY &amp; TECHNOLOGY COACH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D FROM: </a:t>
            </a:r>
            <a:r>
              <a:rPr b="0" lang="en-US" sz="1500" spc="-1" strike="noStrike" u="sng">
                <a:solidFill>
                  <a:srgbClr val="00a3d6"/>
                </a:solidFill>
                <a:uFillTx/>
                <a:latin typeface="Times New Roman"/>
                <a:ea typeface="Times New Roman"/>
                <a:hlinkClick r:id="rId1"/>
              </a:rPr>
              <a:t>WWW.SANJUAN.EDU/FILES/FILESYSTEM/MARZANO.PPS </a:t>
            </a:r>
            <a:r>
              <a:rPr b="1" i="1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WWW.UHSEPORT.NET/PUBLISHED/K/SH/KSHAW/COLLECTION/1/25/UPLOAD.C-KSHAW-1N25.PPT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Reinforcing Effort and </a:t>
            </a:r>
            <a:br>
              <a:rPr sz="4300"/>
            </a:b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Providing Recognition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6" descr="MCj02813330000[1]"/>
          <p:cNvPicPr/>
          <p:nvPr/>
        </p:nvPicPr>
        <p:blipFill>
          <a:blip r:embed="rId3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21932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533520" y="1752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ople generally attribute success at any given task to one of four cau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752480" y="2743200"/>
            <a:ext cx="5181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990720" y="4952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15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Tahoma"/>
              </a:rPr>
              <a:t>Three of these four beliefs ultimately inhibit achievement – (Covington 1983,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219320" y="20574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 all students realize the importance       of believing in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819520" y="5334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dan,Midgley, &amp; Anderman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447920" y="34290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The implication is that teachers should explain and exemplify the “effort belief” to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295280" y="2819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Students who were taught about the relationship between effort and achievement increased their achievement more than students who were taught techniques for time management and comprehension of new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0880" y="5943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657600" y="5562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n Overwalle &amp; De Metsenaere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1219320" y="5335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ahom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838080" y="1600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ents can learn to change their beliefs to an emphasis on eff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114300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409760" y="2514600"/>
            <a:ext cx="6934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personal examples of times you have succeeded because you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examples of well-known athletes and others  who succeeded mainly because they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ve students share personal examples of times they succeeded because they did not give up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523880" y="14479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Students need to be taught that effort can improve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28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533520" y="2209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stud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ort and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533520" y="3352680"/>
            <a:ext cx="70102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Charting their effort and achievement will reveal patterns and help students see the connection between the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064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09480" y="30492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inforcing Effort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990720" y="28195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s know what is exp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ir and credible evaluat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iculum is geared to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responsibility for work is emphas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ults are fixed, time v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ognition of accomplishment is uti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2952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ORGANIZING CLASSROOMS FOR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600200" y="228600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064"/>
                </a:solidFill>
                <a:latin typeface="Papyrus"/>
              </a:rPr>
              <a:t>Providing recognition for attainment of specific goals not only enhances achievement, but it stimulates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219320" y="1828800"/>
            <a:ext cx="7315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s do not necessarily have a negative effect on intrinsic moti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 is most effective when it is contingent on the attainment of some standard of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stract symbolic recognition is more effective than tangible rew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838080" y="457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600200" y="19810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ablish a rationale for 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1584360" y="338616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llow guidelines for effective and ineffective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600200" y="4376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k effort to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1600200" y="5029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the pause, prompt, and praise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523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contingent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es the particulars of the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spontaneity, variety and other signs of credibility that suggest clear attention to the student's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attainment of specified performance criteria (which can include effort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information to students about their competence or the value of their accomplishm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better appreciation of their own task-related behavior and thinking about problem solv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a result of participating in this workshop, teachers will be able t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e the purpose of reinforcing effort and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examples of how teachers reinforce effort and provide recogni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resources that will support their work with students to reinforce effort and provide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randomly or unsystematical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restricted to global positive rea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a bland uniformity that suggests a conditioned response made with minimal atten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mere participation, without consideration of performance processes or outcom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no information at all or gives students information about their statu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comparing themselves with others and thinking about compe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4920" y="17524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es the accomplishments of peers as the context for describing a student's present accomplishment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s given without regard to the effort expended or the meaning of the accomplishment (fo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student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ttributes success to ability alone or to external factors such as luck or (easy) task difficulty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sters exogenous attributions (students believe that they expend effort on the task for external reasons - to please the teacher, win a competition or reward, etc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cuses students' attention on the teacher as an external authority figure who is manipulating them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rudes into the ongoing process, distracting attention from task-relevant behavior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itle 1"/>
          <p:cNvSpPr/>
          <p:nvPr/>
        </p:nvSpPr>
        <p:spPr>
          <a:xfrm>
            <a:off x="533520" y="30492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Georgia"/>
                <a:ea typeface="ＭＳ Ｐゴシック"/>
                <a:hlinkClick r:id="rId1"/>
              </a:rPr>
              <a:t>Examples of How Technology Can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Content Placeholder 2"/>
          <p:cNvSpPr/>
          <p:nvPr/>
        </p:nvSpPr>
        <p:spPr>
          <a:xfrm>
            <a:off x="1600200" y="1371600"/>
            <a:ext cx="7238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ail:  Teachers can send positive notes to parent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cher Webpages for posting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 processing software to create awards and 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readingaward.jpg"/>
          <p:cNvPicPr/>
          <p:nvPr/>
        </p:nvPicPr>
        <p:blipFill>
          <a:blip r:embed="rId2"/>
          <a:stretch/>
        </p:blipFill>
        <p:spPr>
          <a:xfrm>
            <a:off x="228600" y="4572000"/>
            <a:ext cx="2603520" cy="19684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earubric.jpg"/>
          <p:cNvPicPr/>
          <p:nvPr/>
        </p:nvPicPr>
        <p:blipFill>
          <a:blip r:embed="rId3"/>
          <a:stretch/>
        </p:blipFill>
        <p:spPr>
          <a:xfrm>
            <a:off x="6781680" y="4343400"/>
            <a:ext cx="1978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dified Jigsaw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nt off by 10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in with the other people who have the same number as yo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oose a facilitator, scribe, reporter, timekeeper and gatekeep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cuss and research your assigned topic related to Reinforcing Effort or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are a presentation on your assigned top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066680" y="501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NOWBAL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609480" y="1905120"/>
            <a:ext cx="7925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064"/>
                </a:solidFill>
                <a:latin typeface="Tahoma"/>
              </a:rPr>
              <a:t>List the reasons why Reinforcing Effort and Providing Recognition are included in the nine categories of Instructional Strategies proven to increase student achie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one reason per person.  When directed, crumple up your paper and toss it to another person who will add another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80880" y="1219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5b5c"/>
                </a:solidFill>
                <a:latin typeface="Tahoma"/>
              </a:rPr>
              <a:t>On the Snowball Activity handout/Exit C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CKING FOR UNDERSTAN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2666880" y="1219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3d6"/>
                </a:solidFill>
                <a:latin typeface="Tahoma"/>
              </a:rPr>
              <a:t>Base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384200" y="2057400"/>
            <a:ext cx="716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 the four examples of providing recognition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your group, evaluate each example according to the Guidelines for Pra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if recognition is Effective or Ineff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te the specific criteria and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ise any that are in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219320" y="236232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060560" y="12952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1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Dana was unable to make any connections among the elements using a table of characteristics. Mr. Mulder suggests she focus on one characteristic and look for connections. When he returns later, Dana explains how she had figured out a way to group the elements according to boiling point. Mr. Mulder congratulates her on on finding a valid conn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355760" y="64296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143000" y="43084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2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Mr. Mulder circulates as students are working in small groups.  He pauses at Station 1 and comments, “Nice work on your calculations.”  At Station 2, he says, “Nice work on your graphs.” At Station 3, he says, “Nice work on your calculations</a:t>
            </a: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584360" y="64296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371600" y="1523880"/>
            <a:ext cx="68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3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“You really did a good job working through all of the steps and checking your answers for this problem.  I know you’ve had difficulties with multi-step calculations before and sometimes settled for getting any answer down on paper, even if it wasn’t correct. Your determination with the third task really show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447920" y="4648320"/>
            <a:ext cx="67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4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Good job. Jackson. Keep it up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Warm-u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one short sentence that tells about something that they did this morn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this sentence quickly; don’t worry about making it a long descriptive sent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Now think about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11120" y="1523520"/>
            <a:ext cx="873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ere your feet went 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s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though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evise your sentence.  Make it more than one sentence if necessary.  Tell where your feet were, what you saw, and what you were thinking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TE:  The Ba-Da-Bing handout explains this for you and gives you examples if you’d like to try it with your student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C:\Documents and Settings\jcook.EASTCONN\Local Settings\Temporary Internet Files\Content.IE5\5OP4WVKR\MCj04160140000[1].wmf"/>
          <p:cNvPicPr/>
          <p:nvPr/>
        </p:nvPicPr>
        <p:blipFill>
          <a:blip r:embed="rId1"/>
          <a:stretch/>
        </p:blipFill>
        <p:spPr>
          <a:xfrm>
            <a:off x="4724280" y="1066680"/>
            <a:ext cx="1447920" cy="140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jcook.EASTCONN\Local Settings\Temporary Internet Files\Content.IE5\5OP4WVKR\MCj04038930000[1].wmf"/>
          <p:cNvPicPr/>
          <p:nvPr/>
        </p:nvPicPr>
        <p:blipFill>
          <a:blip r:embed="rId2"/>
          <a:stretch/>
        </p:blipFill>
        <p:spPr>
          <a:xfrm>
            <a:off x="2819520" y="198108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C:\Documents and Settings\jcook.EASTCONN\Local Settings\Temporary Internet Files\Content.IE5\SLV3VZGK\MCj04298270000[1].wmf"/>
          <p:cNvPicPr/>
          <p:nvPr/>
        </p:nvPicPr>
        <p:blipFill>
          <a:blip r:embed="rId3"/>
          <a:stretch/>
        </p:blipFill>
        <p:spPr>
          <a:xfrm>
            <a:off x="6095880" y="198108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Think, Pair, Sh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rn to a partner and Share your original and revised sentences with your partner.  Then discuss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do you think I chose the Ba-Da-Bing as a warm-up activity?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connections can you make between Ba-Da-Bing and Effective Teaching Strategie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Essential Nin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tegories Of Instructional Strateg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hat Affect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66680" y="1981080"/>
          <a:ext cx="7391520" cy="4098960"/>
        </p:xfrm>
        <a:graphic>
          <a:graphicData uri="http://schemas.openxmlformats.org/drawingml/2006/table">
            <a:tbl>
              <a:tblPr/>
              <a:tblGrid>
                <a:gridCol w="5313600"/>
                <a:gridCol w="2077920"/>
              </a:tblGrid>
              <a:tr h="110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 similarities and differenc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focused on this strategy earlier in the 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ing and note t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forcing effort and providing recogni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are focusing on this to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inforcing Effort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838080" y="2133720"/>
            <a:ext cx="678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lieving in effort can serve as a powerful motivational tool that students can apply to any situation.  Providing recognition helps students see how  effort affects outc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MCj02813330000[1]"/>
          <p:cNvPicPr/>
          <p:nvPr/>
        </p:nvPicPr>
        <p:blipFill>
          <a:blip r:embed="rId1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121932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flecting on Curr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liefs and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1220760" y="1908000"/>
            <a:ext cx="73184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k, Pair, Share - Turn to your neighbor and discu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you reinforce students’ effort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s the purpose for reinforcing effort in the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makes reinforcing effort effective or in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questions do you have about reinforcing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wish I knew…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encourage students so that they keep moving 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help students put forth effo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as for increasing intrinsic motiv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involve students in the feedback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to get the independent learners that we w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evaluative ways to recognize positive student efforts, accomplishments, and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9:13:01Z</dcterms:created>
  <dc:creator>jcook</dc:creator>
  <dc:description/>
  <dc:language>en-US</dc:language>
  <cp:lastModifiedBy>jcook</cp:lastModifiedBy>
  <dcterms:modified xsi:type="dcterms:W3CDTF">2009-05-06T15:52:18Z</dcterms:modified>
  <cp:revision>67</cp:revision>
  <dc:subject/>
  <dc:title>Reinforcing Effort and Providing  Recognition</dc:title>
</cp:coreProperties>
</file>